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2FB-221F-40DC-AD35-7382FE73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E3F-E52B-46B1-8F61-ED2B2E55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06C-1C9B-4FA3-BD86-8B4D0C7B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078-5E4A-4859-9AF4-9070AE5F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741-8A8F-44E0-8792-1E2CEDC1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5B8-12A2-4D87-A9FD-D9F734EF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B75-11DF-4B63-A123-2CF44A81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F24-0A26-420E-9FA6-D9CB99FF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525-9F93-46CF-A4BD-F36816C6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379-FDF4-4F53-A0FD-9204180B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B11F-A3BD-4330-B947-45B21B13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69F-F0FB-4004-A27B-1733E904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A46F-A419-4939-9A83-4B6C436A51B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5410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 u="sng">
                <a:solidFill>
                  <a:srgbClr val="000000"/>
                </a:solidFill>
                <a:uFillTx/>
                <a:latin typeface="Times New Roman"/>
                <a:cs typeface="AF_Diwani"/>
              </a:rPr>
              <a:t>نشيد رفعة الكأس:</a:t>
            </a:r>
            <a:br>
              <a:rPr sz="8800"/>
            </a:br>
            <a:br>
              <a:rPr sz="8000"/>
            </a:br>
            <a:r>
              <a:rPr b="0" lang="ar-SA" sz="6000" spc="-1" strike="noStrike">
                <a:solidFill>
                  <a:srgbClr val="000000"/>
                </a:solidFill>
                <a:latin typeface="Tahoma"/>
                <a:cs typeface="Ruqah2 Normal"/>
              </a:rPr>
              <a:t>يا آب الحق الرحما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64000" y="504720"/>
            <a:ext cx="5508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آبَ الحقّ الرحمان خُذْ منّا هذا القربانْ قربانَ ابنِكَ الفادي بحرِ الحبِ والغفرانْ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59280" y="719280"/>
            <a:ext cx="5940360" cy="51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بكرَ الآبِ المحجوبْ يسوعُ الفادي المحبوب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حيٌّ أنتَ يا ابنَ الله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حيٌّ أنتَ يا مصلوبْ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48000" y="620640"/>
            <a:ext cx="57229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آبَ الحقّ الرحمان خُذْ منّا هذا القربانْ قربانَ ابنِكَ الفادي بحرِ الحبِ والغفرانْ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916280"/>
            <a:ext cx="5580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ahoma"/>
                <a:cs typeface="Akhbar MT"/>
              </a:rPr>
              <a:t>للهِ الآبِ القادِرْ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Tahoma"/>
                <a:cs typeface="Akhbar MT"/>
              </a:rPr>
              <a:t>والربِ الإبنِ الغافرْ والروحِ الحيِّ الطاهرْ غَنّوا المجدَ كلَّ آنْ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19640" y="1989000"/>
            <a:ext cx="572436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آبَ الحقّ الرحمان خُذْ منّا هذا القربانْ قربانَ ابنِكَ الفادي بحرِ الحبِ والغفرانْ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7-07-13T15:27:11Z</dcterms:modified>
  <cp:revision>12</cp:revision>
  <dc:subject/>
  <dc:title>PowerPoint Presentation</dc:title>
</cp:coreProperties>
</file>